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0116800" cy="15544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E8-1FF2-46FC-B7C9-78FFFB33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BC0-C230-416C-B3E0-8B0771D6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9F5-B6E7-41E1-B7E6-5B600D18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2764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2483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065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712764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32483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90A-28C9-4739-9EC0-35B18667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2A5-81C4-4CA0-9FD5-4C70F82A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5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F5CD-E716-47E3-A6AA-ACA3936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8552-29B8-43BE-9688-123D4D2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7E99-A1AA-42B8-A1F5-982E2B31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E23-66D8-492B-9E30-DCFE4D5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06560" y="630360"/>
            <a:ext cx="18103680" cy="119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7448-90E3-48EA-B6A6-424EBA8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9CB0-9AB3-4EF8-BE4C-EC3BC8B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5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98D-BDE9-4240-91E3-78AB267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38C2-FB5D-4534-B220-603323E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EFB9-6143-4570-B603-24EB5DF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7CBA-04AE-46FE-9A7E-26FACB0C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10B5-C64E-47E5-A1A0-E2769E7F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12764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248360" y="362700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065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712764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3248360" y="8991360"/>
            <a:ext cx="582912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63D-5FC1-41BF-B237-20D2AC5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1DB-093D-4557-B0D2-EEE1B16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BED-4DE9-4F23-A4CA-798C0D0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4B0-E8B9-4A72-A858-5B210CAE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560" y="630360"/>
            <a:ext cx="18103680" cy="119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B0A-716E-49A4-B97B-8B09918A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671-D0E1-41CD-B7BE-9FCFEC3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283040" y="899136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D62-8444-4C2E-8D5B-23145D3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283040" y="3627000"/>
            <a:ext cx="883440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06560" y="8991360"/>
            <a:ext cx="18103680" cy="48985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F69-293D-4DD3-A8C4-BC9001A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6560" y="630360"/>
            <a:ext cx="18103680" cy="25826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9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9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6560" y="3627000"/>
            <a:ext cx="1810368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/>
          </a:bodyPr>
          <a:p>
            <a:pPr marL="763560" indent="-763560">
              <a:spcBef>
                <a:spcPts val="1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1" marL="1492200" indent="-723960">
              <a:spcBef>
                <a:spcPts val="1675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-781200">
              <a:spcBef>
                <a:spcPts val="1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3" marL="2986200" indent="-704880">
              <a:spcBef>
                <a:spcPts val="1675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4" marL="3746520" indent="-757080">
              <a:spcBef>
                <a:spcPts val="1675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5" marL="3746520" indent="-757080">
              <a:spcBef>
                <a:spcPts val="167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lvl="6" marL="3746520" indent="-757080">
              <a:spcBef>
                <a:spcPts val="167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0620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3840" y="1416348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1728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fld id="{E396E489-CF55-4E2C-87BC-3826DBD83FC9}" type="slidenum">
              <a:rPr b="0" lang="en-US" sz="27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517680"/>
            <a:ext cx="18105480" cy="1382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6560" y="13990680"/>
            <a:ext cx="181036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10960" y="3454200"/>
            <a:ext cx="16772040" cy="397188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111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111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0620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873840" y="14152320"/>
            <a:ext cx="636912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14417280" y="14152320"/>
            <a:ext cx="4692600" cy="103644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  <a:defRPr b="0" lang="en-US" sz="27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fld id="{2F94A4E1-8B19-45D5-9074-E6262F7D77F1}" type="slidenum">
              <a:rPr b="0" lang="en-US" sz="27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2763720"/>
            <a:ext cx="17434080" cy="2071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9240" y="8982000"/>
            <a:ext cx="143254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6560" y="388440"/>
            <a:ext cx="18103680" cy="258300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Garamond"/>
              </a:rPr>
              <a:t>ED Relations with the rest of the Hospital</a:t>
            </a:r>
            <a:r>
              <a:rPr b="1" lang="en-US" sz="83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8300"/>
            </a:b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HS 8803: ED of the Future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Group 5 – Caroline Castellino, Sarah Hilton, Hyorim Park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6560" y="3627000"/>
            <a:ext cx="8975520" cy="1026972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 fontScale="94000"/>
          </a:bodyPr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Problem Defini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Patient flow between the ED and other ancillary units (ex. Radiology/Labs/ Inpatient units) and being discharged is not always a smooth, integrated process. This may involve lack of communication, wasteful processes, and lack of needed resources, and leads to extended patient wait times and poor patient throughp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Measurable Metric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Turn around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Length of st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Physical distance from ED rooms to other parts of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ED bed to initial contact with ED physic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02560" indent="-680400">
              <a:lnSpc>
                <a:spcPct val="85000"/>
              </a:lnSpc>
              <a:spcBef>
                <a:spcPts val="9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Lab/Radiology order placed to results/report received in 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5760" y="3657600"/>
            <a:ext cx="9677160" cy="10269360"/>
          </a:xfrm>
          <a:prstGeom prst="rect">
            <a:avLst/>
          </a:prstGeom>
          <a:noFill/>
          <a:ln w="0">
            <a:noFill/>
          </a:ln>
        </p:spPr>
        <p:txBody>
          <a:bodyPr lIns="203760" rIns="203760" tIns="101880" bIns="101880" anchor="t">
            <a:normAutofit fontScale="93000"/>
          </a:bodyPr>
          <a:p>
            <a:pPr marL="709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 u="sng">
                <a:solidFill>
                  <a:srgbClr val="003399"/>
                </a:solidFill>
                <a:uFillTx/>
                <a:latin typeface="Garamond"/>
              </a:rPr>
              <a:t>Resourc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-662760">
              <a:lnSpc>
                <a:spcPct val="85000"/>
              </a:lnSpc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alysis of patient flow in the emergency department and the effect of an extensive re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0">
              <a:lnSpc>
                <a:spcPct val="85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Miró Ó, Sánchez, M, Espinosa G,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et al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.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Emerg Med J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2003;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20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:143–8.</a:t>
            </a:r>
            <a:r>
              <a:rPr b="0" lang="en-US" sz="3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-726480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ED overcrowding and effectiveness are determined by internal factors and external pressures. Measuring patient flow can help to detect what these factors are, and to determine how to reorganize the 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-662760">
              <a:lnSpc>
                <a:spcPct val="85000"/>
              </a:lnSpc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Effect of coupling between emergency department and inpatient unit on the overcrowding in emergency department.</a:t>
            </a:r>
            <a:r>
              <a:rPr b="1" lang="en-US" sz="3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77360" indent="0">
              <a:lnSpc>
                <a:spcPct val="85000"/>
              </a:lnSpc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Kolb, E. M., Lee, T., and Peck, J. 2007. In </a:t>
            </a:r>
            <a:r>
              <a:rPr b="0" i="1" lang="en-US" sz="2000" spc="-1" strike="noStrike">
                <a:solidFill>
                  <a:srgbClr val="003399"/>
                </a:solidFill>
                <a:latin typeface="Garamond"/>
              </a:rPr>
              <a:t>Proceedings of the 39th Conference on Winter Simulation: 40 Years! the Best Is Yet To Come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(Washington D.C., December 09 - 12, 2007). Winter Simulation Conference. IEEE Press, Piscataway, NJ, 1586-1593.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161440" indent="-726480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4076640"/>
                <a:tab algn="l" pos="6114960"/>
                <a:tab algn="l" pos="8153280"/>
                <a:tab algn="l" pos="101916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When trying to improve ED operations, one must also look at how the Inpatient Units are being utilized. Focusing on these may have the greater impac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09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038320"/>
                <a:tab algn="l" pos="4076640"/>
                <a:tab algn="l" pos="6114960"/>
                <a:tab algn="l" pos="815328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6:32:31Z</dcterms:created>
  <dc:creator>cc3289</dc:creator>
  <dc:description/>
  <dc:language>en-US</dc:language>
  <cp:lastModifiedBy>Caroline Castellino</cp:lastModifiedBy>
  <dcterms:modified xsi:type="dcterms:W3CDTF">2008-09-23T12:32:04Z</dcterms:modified>
  <cp:revision>19</cp:revision>
  <dc:subject/>
  <dc:title>Issue Title  HS 8803: Group 5</dc:title>
</cp:coreProperties>
</file>